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8EF-25CC-413A-84C5-2DB0AD58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556-7137-46F6-9E2E-6AD3889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190-0555-49F6-904B-6B1201C1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FA1-05A1-4C82-9957-F7F64E97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9F5-F6B9-406B-BEC8-87C60D4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2AD-18F8-4E33-BECC-E562619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1D4-44DF-45A7-9275-E0191F7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16A-E0EA-4209-9075-06E699FB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588-0999-41F4-8533-2C4A680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767-C6C1-46F2-8034-5A5C41F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23D-37E8-461C-885E-1B7EA5A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2D9-6466-4A6D-9202-A4E787D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C84-BECB-4408-A2FE-5010C912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Морские</a:t>
            </a:r>
            <a:br>
              <a:rPr sz="9600"/>
            </a:b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жител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5216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сьми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26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ст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5661000"/>
            <a:ext cx="56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ути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64000" y="259920"/>
            <a:ext cx="34927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р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м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рал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25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0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Море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7340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ем обитают тысячи удивительн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ли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40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ко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елая 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90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ула-мо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5877000"/>
            <a:ext cx="59324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рки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5236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360" y="-360"/>
            <a:ext cx="475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8:44:32Z</dcterms:created>
  <dc:creator>Инна</dc:creator>
  <dc:description/>
  <dc:language>en-US</dc:language>
  <cp:lastModifiedBy>Инна</cp:lastModifiedBy>
  <dcterms:modified xsi:type="dcterms:W3CDTF">2004-12-19T19:34:39Z</dcterms:modified>
  <cp:revision>6</cp:revision>
  <dc:subject/>
  <dc:title>Слайд 1</dc:title>
</cp:coreProperties>
</file>